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chimes.wav" ContentType="audio/x-wav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FE14-343F-4E79-839A-60D0185F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D825-51B7-480E-ABE4-7087B1CC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D3F9-7DF9-4EB3-8192-31E109EF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9F88-DC03-415D-BDBA-439D7C5C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106B-022F-4AF2-8FCA-639512A5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2043-A12C-4E51-98CD-DBBB6D0A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320F-9637-46F6-B733-0F3894DC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46F5-0A6F-48EE-AF33-205EEAA7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48EB-AFF9-4806-B9AC-9E378F15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B1A9-CAFA-4BE2-9529-14740B89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09C3-F3FB-436E-8D94-83BC39AC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7F9-009E-4484-B449-D79AA26E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70641-9FF6-4AF5-A0E2-132D13DD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21F6-13F9-4572-8F16-B839F412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6843-50B2-46C8-BF5C-5F9EA07A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09E5-E0BA-49D6-8AE2-54E898DB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2251-C3E3-4FCD-9B96-4C58F41C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64C-6347-4A8E-B147-CF562487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5382-DD0A-4A23-A5CE-C3248322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FC8F-D127-4830-BBC8-25B69E71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155D-FF40-4317-8100-E3543FB80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3FD3-1752-4C93-B915-B7A5E0B6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38D0-11D0-4298-BE83-5F0CEC22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E7B5-BE68-411C-B01A-61D66EC0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313920"/>
            <a:ext cx="847440" cy="6543360"/>
            <a:chOff x="152280" y="313920"/>
            <a:chExt cx="847440" cy="654336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960" y="316620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960" y="410868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7440" y="504792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960" y="33876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7440" y="127476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7440" y="222048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5B1F-5DEE-420F-903C-35CAB9600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1027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1028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1029"/>
          <p:cNvGrpSpPr/>
          <p:nvPr/>
        </p:nvGrpSpPr>
        <p:grpSpPr>
          <a:xfrm>
            <a:off x="152280" y="313920"/>
            <a:ext cx="847440" cy="6543360"/>
            <a:chOff x="152280" y="313920"/>
            <a:chExt cx="847440" cy="6543360"/>
          </a:xfrm>
        </p:grpSpPr>
        <p:sp>
          <p:nvSpPr>
            <p:cNvPr id="68" name="AutoShape 1030"/>
            <p:cNvSpPr/>
            <p:nvPr/>
          </p:nvSpPr>
          <p:spPr>
            <a:xfrm flipH="1" rot="5400000">
              <a:off x="129960" y="316620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1031"/>
            <p:cNvSpPr/>
            <p:nvPr/>
          </p:nvSpPr>
          <p:spPr>
            <a:xfrm flipH="1" rot="5400000">
              <a:off x="129960" y="410868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1032"/>
            <p:cNvSpPr/>
            <p:nvPr/>
          </p:nvSpPr>
          <p:spPr>
            <a:xfrm flipH="1" rot="5400000">
              <a:off x="127440" y="504792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1033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34"/>
            <p:cNvSpPr/>
            <p:nvPr/>
          </p:nvSpPr>
          <p:spPr>
            <a:xfrm flipH="1" rot="5400000">
              <a:off x="129960" y="338760"/>
              <a:ext cx="894600" cy="844560"/>
            </a:xfrm>
            <a:prstGeom prst="parallelogram">
              <a:avLst>
                <a:gd name="adj" fmla="val 5609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035"/>
            <p:cNvSpPr/>
            <p:nvPr/>
          </p:nvSpPr>
          <p:spPr>
            <a:xfrm flipH="1" rot="5400000">
              <a:off x="127440" y="127476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036"/>
            <p:cNvSpPr/>
            <p:nvPr/>
          </p:nvSpPr>
          <p:spPr>
            <a:xfrm flipH="1" rot="5400000">
              <a:off x="127440" y="2220480"/>
              <a:ext cx="894600" cy="844920"/>
            </a:xfrm>
            <a:prstGeom prst="parallelogram">
              <a:avLst>
                <a:gd name="adj" fmla="val 5606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037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038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039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040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041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42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043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1044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1045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1046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1047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1048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1049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1050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1051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BD57-E976-48A0-866B-5CB9FE94A3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905120" y="457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STRES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600200" y="25909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ody and mind reaction to everyday demands and threa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C:\Program Files\Common Files\Microsoft Shared\Clipart\cagcat50\BD07175_.WMF"/>
          <p:cNvPicPr/>
          <p:nvPr/>
        </p:nvPicPr>
        <p:blipFill>
          <a:blip r:embed="rId1"/>
          <a:stretch/>
        </p:blipFill>
        <p:spPr>
          <a:xfrm>
            <a:off x="2971800" y="4038480"/>
            <a:ext cx="3276720" cy="216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144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How to Manage Your Stres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LIMINATE OR REDUCE YOUR EXPOSURE TO THE STR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HANGE THE WAY YOU PERCEIVE THE STR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RELIEVING STRES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XERCIS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USIC THERAP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EDIT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UMOR OR LAUGH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GRESSIVE MUSCLE RELAX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EP BREATH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MASSAG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8" name="Picture 5" descr="C:\Program Files\Common Files\Microsoft Shared\Clipart\cagcat50\pe02364_.wmf"/>
          <p:cNvPicPr/>
          <p:nvPr/>
        </p:nvPicPr>
        <p:blipFill>
          <a:blip r:embed="rId1"/>
          <a:stretch/>
        </p:blipFill>
        <p:spPr>
          <a:xfrm>
            <a:off x="1066680" y="2455920"/>
            <a:ext cx="384840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0440" y="3047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2 TYPES OF STRES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EUSTRES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GOOD STRE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OSITIVE STRE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U – GREEK PREFIX WHICH MEANS GOO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DISTRES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AD STR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NEGATIVE STRES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checker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STRESSOR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NGS THAT PRODUCE A STRESS RESPONS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41" name="Picture 5" descr="C:\Program Files\Common Files\Microsoft Shared\Clipart\cagcat50\pe03166_.wmf"/>
          <p:cNvPicPr/>
          <p:nvPr/>
        </p:nvPicPr>
        <p:blipFill>
          <a:blip r:embed="rId1"/>
          <a:stretch/>
        </p:blipFill>
        <p:spPr>
          <a:xfrm>
            <a:off x="6019920" y="3733920"/>
            <a:ext cx="1695240" cy="1788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C:\Program Files\Microsoft Office\Clipart\Pub60Cor\bd00146_.wmf"/>
          <p:cNvPicPr/>
          <p:nvPr/>
        </p:nvPicPr>
        <p:blipFill>
          <a:blip r:embed="rId2"/>
          <a:stretch/>
        </p:blipFill>
        <p:spPr>
          <a:xfrm>
            <a:off x="1752480" y="3809880"/>
            <a:ext cx="1827360" cy="1812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3" name="chimes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TYPES OF STRESSOR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BIOLOGICAL STRESSOR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NVIRONMENTA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GNITIVE OR THINKING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SONAL BEHAVIOR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LIFE STITUATIO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STRESSOR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BIOLOGICAL-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ental or physical illne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. being blind, break an ar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ENVIROMENTAL-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overty, pollution, crowding, noises and natural disast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MORE STRESSOR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COGNITIVE OR THINKING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- the way you perceive a situ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6700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PERSONAL BEHAVIOR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- negative reaction of the mind and body because of drugs,alcohol, etc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STRESS CONTINUED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48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</a:rPr>
              <a:t>LIFE SITUATIONS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- having someone or something die, divorce, trouble relationship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53" name="Picture 5" descr="C:\Program Files\Common Files\Microsoft Shared\Clipart\cagcat50\BD06990_.WMF"/>
          <p:cNvPicPr/>
          <p:nvPr/>
        </p:nvPicPr>
        <p:blipFill>
          <a:blip r:embed="rId1"/>
          <a:stretch/>
        </p:blipFill>
        <p:spPr>
          <a:xfrm>
            <a:off x="5257800" y="2209680"/>
            <a:ext cx="26463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12:03:26Z</dcterms:created>
  <dc:creator>Unknown User</dc:creator>
  <dc:description/>
  <dc:language>en-US</dc:language>
  <cp:lastModifiedBy>Daly Dominguez</cp:lastModifiedBy>
  <dcterms:modified xsi:type="dcterms:W3CDTF">2016-08-01T22:16:06Z</dcterms:modified>
  <cp:revision>8</cp:revision>
  <dc:subject/>
  <dc:title>STRESS MANAGEMENT</dc:title>
</cp:coreProperties>
</file>